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869B-7600-463A-A9C5-1413E0DEAB2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433B-88F2-487F-98A5-452DC6D511C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382C-84A6-4962-A7B2-E57CFB7010D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DF8E-6E6F-47EC-A270-51BF4CA9A38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7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CB2D-F3C1-40F7-AF86-FEA9FCE39B5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725E9-88DF-4B16-AC8B-97D14035E9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6306-0227-4281-8A26-1D0915963C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9AA46-EE82-438A-8CB9-A3757804500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8C7D-B99D-48B1-8CC5-4C133150F92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DD04-E450-4087-8FF5-C2537E140CF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93A7-773F-4873-97E6-9236540E55E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5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8848-DECE-4CD3-B4EF-0EB59484A4E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789E-24B6-4BD0-AA2A-5B9FA46F287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6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E63C-1C0D-41E6-A7AC-51C77D66E8C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351F5-E06B-478B-92F0-AF016C21F7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34630-F836-4F0D-AA56-0C2B0D6D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EBEF-765B-4EA9-AF6D-AA022450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B069B-B52D-438E-B832-03ED377DE4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1075F-76DD-4A57-BF24-DE219F954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69695B-5DF6-450E-AB7C-882BCEF42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9E2F-3DB5-4332-87F8-9132E0CBC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006F8-4312-4D72-AD1B-F3AEDAFCC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BE50C-A637-4469-B842-0C9792361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C5737-71C4-4BE9-9FBE-C41196B1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D03A-0754-4C8E-9576-CAA89A1B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CB227-EA06-4824-A242-500614DB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550A-6DDE-4C38-B25A-4770DBEF36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六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急性中毒患者的救护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灯片编号占位符 5"/>
          <p:cNvSpPr/>
          <p:nvPr/>
        </p:nvSpPr>
        <p:spPr>
          <a:xfrm>
            <a:off x="4284720" y="6524640"/>
            <a:ext cx="1224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EB30F-2891-436E-BF4A-984FCC923AE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65980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清除眼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眼内毒物可用清水或生理盐水反复冲洗，冲洗时间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不少于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避免使用中和性溶液冲洗，以免发生化学反应，造成角膜、结膜的损伤。冲洗后给予抗生素眼药水或眼膏，防治继发感染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4356000" y="6524640"/>
            <a:ext cx="12016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3604-B45B-420C-92A1-A57D64D8206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58816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清除胃肠道内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对于胃肠道内尚未吸收的毒物，应尽早给予催吐、洗胃、灌肠、导泻或活性炭吸附等方法清除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4572000" y="6524640"/>
            <a:ext cx="11523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4AC57-E992-4FC4-9D2E-912A3E01837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促进已吸收毒物的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利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静脉补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利尿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调节尿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pH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5"/>
          <p:cNvSpPr/>
          <p:nvPr/>
        </p:nvSpPr>
        <p:spPr>
          <a:xfrm>
            <a:off x="442764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BF320-DEE0-495D-A903-21E574AA4C0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吸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血液净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透析疗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灌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浆置换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3AB38-1A83-4A7D-AB28-217AD95B5C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特效解毒剂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高铁血红蛋白血症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剂量亚甲蓝（美蓝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可使高铁血红蛋白还原为正常的血红蛋白，可用于亚硝酸盐、硝基苯、苯胺等中毒引起的高铁血红蛋白血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灯片编号占位符 5"/>
          <p:cNvSpPr/>
          <p:nvPr/>
        </p:nvSpPr>
        <p:spPr>
          <a:xfrm>
            <a:off x="471636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3645-0907-42D9-8B43-07B2E10EBFB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金属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依地酸钙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氨酸螯合剂，适用于铅、锰、铜、镉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丙醇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最常用的巯基螯合剂，适用于砷、汞、金、锑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二巯基丁二酸钠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广谱金属解毒剂，适用于铅、汞、银、铜、砷、锑、镍等金属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灯片编号占位符 5"/>
          <p:cNvSpPr/>
          <p:nvPr/>
        </p:nvSpPr>
        <p:spPr>
          <a:xfrm>
            <a:off x="4356000" y="6524640"/>
            <a:ext cx="10796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88B8-72B0-4D1A-A7A8-6788DC581A9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抑制剂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纳洛酮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为吗啡受体拮抗剂，是阿片类麻醉药的解毒剂，对麻醉镇痛引起的呼吸抑制有特异的拮抗作用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：苯二氮䓬类药物中毒的拮抗剂，用于安定、利眠宁等中毒的治疗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灯片编号占位符 5"/>
          <p:cNvSpPr/>
          <p:nvPr/>
        </p:nvSpPr>
        <p:spPr>
          <a:xfrm>
            <a:off x="4572000" y="6524640"/>
            <a:ext cx="1008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8AF0C-DA60-476C-9A29-3964A170347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96472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有机磷杀虫药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常用的有阿托品、解磷定、酸戊已奎醚注射液（长托宁）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五）氰化物中毒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采用亚硝酸盐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硫代硫酸钠疗法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4500720" y="6524640"/>
            <a:ext cx="9144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430C2-47F7-4AE0-B6B7-4263BDD058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五、对症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大多数急性中毒并无特效解毒剂，或短时间内很难明确毒物的种类和性质，因此对症支持治疗非常重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另外，还应采取积极措施维护心、脑、肺、肝、肾等重要脏器功能，防治并发症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91200-548D-4A27-B963-C0AF204F4C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急性中毒的基本救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用的中毒抢救技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常见急性中毒患者的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15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6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2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3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5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6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56760" y="1412640"/>
            <a:ext cx="8610840" cy="49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催吐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适用于神志清醒且能合作的非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1842-4672-4A5A-96B0-FC1581FB6C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昏迷、惊厥状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腐蚀性毒物中毒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食管胃底静脉曲张、主动脉瘤、消化性溃疡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休克、高血压、肺水肿、冠心病、妊娠、年老体弱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饮用汽油、柴油、煤油等石油蒸馏物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99760"/>
            <a:ext cx="8717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方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机械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药物催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F2005-DF13-4998-A9FC-1B430BE9B3E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四）注意事项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急性中毒者，应迅速采用口服催吐法，必要时进行洗胃，减少毒物的吸收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当呕吐发生时，患者采取左侧卧位，头部放低，面向左侧，臀部略抬高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幼儿应俯卧，头向下，臀部略抬高，以防止呕吐物吸入气管发生窒息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78920" y="1499760"/>
            <a:ext cx="8788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洗胃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一）适应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服毒物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6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小时内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洗胃效果最好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非腐蚀性毒物中毒，如镇静催眠药、有机磷杀虫剂、生物碱、重金属类及食物中毒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幽门梗阻伴有明显胃潴留扩张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1C48-4BB7-4790-814E-1C73CA055EB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1499760"/>
            <a:ext cx="8967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二）禁忌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强酸、强碱等腐蚀性毒物中毒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性溃疡、食管胃底静脉曲张、胃癌、上消化道大出血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主动脉瘤、重度心肺功能不全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惊厥或抽搐未控制者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3D55-5487-487F-B85D-ADE653D912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用的中毒抢救技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42472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三）常用洗胃液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保护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吸附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和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解毒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沉淀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溶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9EFC0-22A7-4CF1-80EC-567C7D136D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线形标注 2 2"/>
          <p:cNvSpPr/>
          <p:nvPr/>
        </p:nvSpPr>
        <p:spPr>
          <a:xfrm>
            <a:off x="3692520" y="1165320"/>
            <a:ext cx="5343480" cy="7570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8361"/>
              <a:gd name="adj6" fmla="val -2556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豆浆、牛奶、蛋清、米汤、植物油暂时保护胃黏膜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线形标注 1 3"/>
          <p:cNvSpPr/>
          <p:nvPr/>
        </p:nvSpPr>
        <p:spPr>
          <a:xfrm>
            <a:off x="3692520" y="1995480"/>
            <a:ext cx="5343480" cy="576360"/>
          </a:xfrm>
          <a:prstGeom prst="borderCallout1">
            <a:avLst>
              <a:gd name="adj1" fmla="val 18750"/>
              <a:gd name="adj2" fmla="val -8333"/>
              <a:gd name="adj3" fmla="val 102564"/>
              <a:gd name="adj4" fmla="val -255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活性炭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线形标注 1 4"/>
          <p:cNvSpPr/>
          <p:nvPr/>
        </p:nvSpPr>
        <p:spPr>
          <a:xfrm>
            <a:off x="3692520" y="2690640"/>
            <a:ext cx="5343480" cy="1025640"/>
          </a:xfrm>
          <a:prstGeom prst="borderCallout1">
            <a:avLst>
              <a:gd name="adj1" fmla="val 18750"/>
              <a:gd name="adj2" fmla="val -8333"/>
              <a:gd name="adj3" fmla="val 47722"/>
              <a:gd name="adj4" fmla="val -2630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吞服强碱时：选择弱酸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食醋、果汁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吞服强酸时：选择弱碱，如</a:t>
            </a:r>
            <a:r>
              <a:rPr b="0" lang="zh-CN" sz="1800" spc="-1" strike="noStrike">
                <a:solidFill>
                  <a:srgbClr val="ff0000"/>
                </a:solidFill>
                <a:latin typeface="宋体"/>
                <a:ea typeface="宋体"/>
              </a:rPr>
              <a:t>氢氧化铝凝胶、镁乳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等进行中和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线形标注 1 5"/>
          <p:cNvSpPr/>
          <p:nvPr/>
        </p:nvSpPr>
        <p:spPr>
          <a:xfrm>
            <a:off x="3708360" y="3860640"/>
            <a:ext cx="5327640" cy="576360"/>
          </a:xfrm>
          <a:prstGeom prst="borderCallout1">
            <a:avLst>
              <a:gd name="adj1" fmla="val 18750"/>
              <a:gd name="adj2" fmla="val -8333"/>
              <a:gd name="adj3" fmla="val -20291"/>
              <a:gd name="adj4" fmla="val -25731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：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∶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高锰酸钾或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碳酸氢钠溶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线形标注 1 6"/>
          <p:cNvSpPr/>
          <p:nvPr/>
        </p:nvSpPr>
        <p:spPr>
          <a:xfrm>
            <a:off x="3708360" y="4653000"/>
            <a:ext cx="5327640" cy="720720"/>
          </a:xfrm>
          <a:prstGeom prst="borderCallout1">
            <a:avLst>
              <a:gd name="adj1" fmla="val 18750"/>
              <a:gd name="adj2" fmla="val -8333"/>
              <a:gd name="adj3" fmla="val -56208"/>
              <a:gd name="adj4" fmla="val -26805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如硫酸钠与可溶性钡盐作用生成不溶性硫酸钡，生理盐水与硝酸盐作用生成氯化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线形标注 1 7"/>
          <p:cNvSpPr/>
          <p:nvPr/>
        </p:nvSpPr>
        <p:spPr>
          <a:xfrm>
            <a:off x="3708360" y="5567400"/>
            <a:ext cx="5316480" cy="828720"/>
          </a:xfrm>
          <a:prstGeom prst="borderCallout1">
            <a:avLst>
              <a:gd name="adj1" fmla="val 18750"/>
              <a:gd name="adj2" fmla="val -8333"/>
              <a:gd name="adj3" fmla="val -79078"/>
              <a:gd name="adj4" fmla="val -3134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饮用汽油、煤油等脂溶性毒物者，先用液体石蜡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50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00ml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1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D30C-D2DD-4C41-B6B3-3D65E08153E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常见急性中毒患者的救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468360" y="907920"/>
            <a:ext cx="4798800" cy="720360"/>
            <a:chOff x="468360" y="907920"/>
            <a:chExt cx="4798800" cy="720360"/>
          </a:xfrm>
        </p:grpSpPr>
        <p:grpSp>
          <p:nvGrpSpPr>
            <p:cNvPr id="210" name="Group 5"/>
            <p:cNvGrpSpPr/>
            <p:nvPr/>
          </p:nvGrpSpPr>
          <p:grpSpPr>
            <a:xfrm>
              <a:off x="468360" y="907920"/>
              <a:ext cx="761400" cy="720360"/>
              <a:chOff x="468360" y="907920"/>
              <a:chExt cx="761400" cy="72036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74480" y="920160"/>
                <a:ext cx="755280" cy="708120"/>
              </a:xfrm>
              <a:prstGeom prst="hexagon">
                <a:avLst>
                  <a:gd name="adj" fmla="val 2666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468360" y="907920"/>
                <a:ext cx="755640" cy="708120"/>
              </a:xfrm>
              <a:prstGeom prst="hexagon">
                <a:avLst>
                  <a:gd name="adj" fmla="val 2667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68360" y="950400"/>
                <a:ext cx="720720" cy="606240"/>
              </a:xfrm>
              <a:prstGeom prst="hexagon">
                <a:avLst>
                  <a:gd name="adj" fmla="val 26660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4360" y="1532160"/>
              <a:ext cx="3888000" cy="2412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476360" y="1052280"/>
              <a:ext cx="3790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有机磷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52680" y="962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468360" y="1700280"/>
            <a:ext cx="4462200" cy="664920"/>
            <a:chOff x="468360" y="1700280"/>
            <a:chExt cx="4462200" cy="664920"/>
          </a:xfrm>
        </p:grpSpPr>
        <p:grpSp>
          <p:nvGrpSpPr>
            <p:cNvPr id="218" name="Group 13"/>
            <p:cNvGrpSpPr/>
            <p:nvPr/>
          </p:nvGrpSpPr>
          <p:grpSpPr>
            <a:xfrm>
              <a:off x="468360" y="1700280"/>
              <a:ext cx="811440" cy="664920"/>
              <a:chOff x="468360" y="1700280"/>
              <a:chExt cx="811440" cy="66492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75200" y="171144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468360" y="1700280"/>
                <a:ext cx="804600" cy="653760"/>
              </a:xfrm>
              <a:prstGeom prst="hexagon">
                <a:avLst>
                  <a:gd name="adj" fmla="val 3076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515880" y="1739880"/>
                <a:ext cx="705960" cy="574560"/>
              </a:xfrm>
              <a:prstGeom prst="hexagon">
                <a:avLst>
                  <a:gd name="adj" fmla="val 3073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81800" y="2276280"/>
              <a:ext cx="38487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2005920" y="1771560"/>
              <a:ext cx="170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百草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76080" y="17506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468360" y="2492280"/>
            <a:ext cx="4537080" cy="665280"/>
            <a:chOff x="468360" y="2492280"/>
            <a:chExt cx="453708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468360" y="2492280"/>
              <a:ext cx="761400" cy="665280"/>
              <a:chOff x="468360" y="2492280"/>
              <a:chExt cx="76140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74480" y="250344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468360" y="24922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512640" y="253188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44360" y="3068640"/>
              <a:ext cx="396108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2150280" y="2563920"/>
              <a:ext cx="200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灭鼠剂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652680" y="2543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468360" y="3284640"/>
            <a:ext cx="4534920" cy="664920"/>
            <a:chOff x="468360" y="3284640"/>
            <a:chExt cx="4534920" cy="664920"/>
          </a:xfrm>
        </p:grpSpPr>
        <p:grpSp>
          <p:nvGrpSpPr>
            <p:cNvPr id="234" name="Group 29"/>
            <p:cNvGrpSpPr/>
            <p:nvPr/>
          </p:nvGrpSpPr>
          <p:grpSpPr>
            <a:xfrm>
              <a:off x="468360" y="3284640"/>
              <a:ext cx="810720" cy="664920"/>
              <a:chOff x="468360" y="3284640"/>
              <a:chExt cx="810720" cy="66492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75200" y="329580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468360" y="3284640"/>
                <a:ext cx="803880" cy="653760"/>
              </a:xfrm>
              <a:prstGeom prst="hexagon">
                <a:avLst>
                  <a:gd name="adj" fmla="val 3074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515880" y="3324240"/>
                <a:ext cx="672480" cy="574560"/>
              </a:xfrm>
              <a:prstGeom prst="hexagon">
                <a:avLst>
                  <a:gd name="adj" fmla="val 30713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1081440" y="3860640"/>
              <a:ext cx="392184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581840" y="3335040"/>
              <a:ext cx="1954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675720" y="3335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468360" y="4076640"/>
            <a:ext cx="4534920" cy="665280"/>
            <a:chOff x="468360" y="4076640"/>
            <a:chExt cx="453492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468360" y="4076640"/>
              <a:ext cx="798120" cy="665280"/>
              <a:chOff x="468360" y="4076640"/>
              <a:chExt cx="79812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74840" y="4087800"/>
                <a:ext cx="791640" cy="654120"/>
              </a:xfrm>
              <a:prstGeom prst="hexagon">
                <a:avLst>
                  <a:gd name="adj" fmla="val 302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468360" y="4076640"/>
                <a:ext cx="792000" cy="654120"/>
              </a:xfrm>
              <a:prstGeom prst="hexagon">
                <a:avLst>
                  <a:gd name="adj" fmla="val 3027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514080" y="4116240"/>
                <a:ext cx="694800" cy="574920"/>
              </a:xfrm>
              <a:prstGeom prst="hexagon">
                <a:avLst>
                  <a:gd name="adj" fmla="val 30229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1072080" y="4653000"/>
              <a:ext cx="39312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564920" y="4148280"/>
              <a:ext cx="19260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669960" y="412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468360" y="4869000"/>
            <a:ext cx="4608360" cy="664920"/>
            <a:chOff x="468360" y="4869000"/>
            <a:chExt cx="4608360" cy="664920"/>
          </a:xfrm>
        </p:grpSpPr>
        <p:grpSp>
          <p:nvGrpSpPr>
            <p:cNvPr id="250" name="Group 45"/>
            <p:cNvGrpSpPr/>
            <p:nvPr/>
          </p:nvGrpSpPr>
          <p:grpSpPr>
            <a:xfrm>
              <a:off x="468360" y="4869000"/>
              <a:ext cx="761400" cy="664920"/>
              <a:chOff x="468360" y="4869000"/>
              <a:chExt cx="761400" cy="66492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74480" y="488016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468360" y="486900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512640" y="490860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4360" y="544500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2255760" y="4919400"/>
              <a:ext cx="231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急性镇静催眠药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52680" y="49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矩形 55"/>
          <p:cNvSpPr/>
          <p:nvPr/>
        </p:nvSpPr>
        <p:spPr>
          <a:xfrm>
            <a:off x="1403280" y="328464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一氧化碳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矩形 56"/>
          <p:cNvSpPr/>
          <p:nvPr/>
        </p:nvSpPr>
        <p:spPr>
          <a:xfrm>
            <a:off x="1403280" y="4076640"/>
            <a:ext cx="415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急性酒精中毒患者的救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44"/>
          <p:cNvGrpSpPr/>
          <p:nvPr/>
        </p:nvGrpSpPr>
        <p:grpSpPr>
          <a:xfrm>
            <a:off x="468360" y="5732640"/>
            <a:ext cx="4608360" cy="666000"/>
            <a:chOff x="468360" y="5732640"/>
            <a:chExt cx="4608360" cy="666000"/>
          </a:xfrm>
        </p:grpSpPr>
        <p:grpSp>
          <p:nvGrpSpPr>
            <p:cNvPr id="260" name="Group 45"/>
            <p:cNvGrpSpPr/>
            <p:nvPr/>
          </p:nvGrpSpPr>
          <p:grpSpPr>
            <a:xfrm>
              <a:off x="468360" y="5732640"/>
              <a:ext cx="761400" cy="666000"/>
              <a:chOff x="468360" y="5732640"/>
              <a:chExt cx="761400" cy="666000"/>
            </a:xfrm>
          </p:grpSpPr>
          <p:sp>
            <p:nvSpPr>
              <p:cNvPr id="261" name="AutoShape 46"/>
              <p:cNvSpPr/>
              <p:nvPr/>
            </p:nvSpPr>
            <p:spPr>
              <a:xfrm>
                <a:off x="474480" y="5743800"/>
                <a:ext cx="755280" cy="654840"/>
              </a:xfrm>
              <a:prstGeom prst="hexagon">
                <a:avLst>
                  <a:gd name="adj" fmla="val 28835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2" name="AutoShape 47"/>
              <p:cNvSpPr/>
              <p:nvPr/>
            </p:nvSpPr>
            <p:spPr>
              <a:xfrm>
                <a:off x="468360" y="5732640"/>
                <a:ext cx="755640" cy="654840"/>
              </a:xfrm>
              <a:prstGeom prst="hexagon">
                <a:avLst>
                  <a:gd name="adj" fmla="val 28848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3" name="AutoShape 48"/>
              <p:cNvSpPr/>
              <p:nvPr/>
            </p:nvSpPr>
            <p:spPr>
              <a:xfrm>
                <a:off x="512640" y="5771880"/>
                <a:ext cx="663480" cy="576000"/>
              </a:xfrm>
              <a:prstGeom prst="hexagon">
                <a:avLst>
                  <a:gd name="adj" fmla="val 28818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4" name="Line 49"/>
            <p:cNvSpPr/>
            <p:nvPr/>
          </p:nvSpPr>
          <p:spPr>
            <a:xfrm>
              <a:off x="1044360" y="6310080"/>
              <a:ext cx="403236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Text Box 50"/>
            <p:cNvSpPr/>
            <p:nvPr/>
          </p:nvSpPr>
          <p:spPr>
            <a:xfrm>
              <a:off x="2097720" y="5783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强酸强碱中毒患者的救护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Text Box 51"/>
            <p:cNvSpPr/>
            <p:nvPr/>
          </p:nvSpPr>
          <p:spPr>
            <a:xfrm>
              <a:off x="653400" y="5783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7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56760" y="149976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有机磷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7EB5-EC30-4A7C-9689-7C714A466F0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圆角矩形 4"/>
          <p:cNvSpPr/>
          <p:nvPr/>
        </p:nvSpPr>
        <p:spPr>
          <a:xfrm>
            <a:off x="324000" y="2349360"/>
            <a:ext cx="8496000" cy="3527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案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6-1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，男性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5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突然昏迷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小时急诊入院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查体：体温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36.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℃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脉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11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呼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2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，血压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95/60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处于浅昏迷状态，面色苍白，口唇紫绀，口吐白沫，皮肤湿冷，呼吸困难，双侧瞳孔缩小如针尖，呼吸有大蒜样臭味，听诊肺部湿啰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该患者最可能发生什么状况？为进一步明确诊断，需要做哪些检查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抑制胆碱酯酶的活性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导致胆碱能神经递质大量积聚，作用于胆碱受体，引起胆碱能神经先兴奋后抑制的一系列毒蕈碱样、烟碱样及中枢神经系统中毒的症状和体征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7361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急性中毒的基本救治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催吐和洗胃的适应证、禁忌证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描述常见毒物中毒的临床表现和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483E-9368-4270-BE83-FE653B4B2B4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24000" y="90792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蕈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烟碱样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全血胆碱酯酶活性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有机磷杀虫药代谢产物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94320" indent="-19872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体液不足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严重呕吐、腹泻导致体液丢失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呼吸道腺体分泌过多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有机磷毒物累及中枢神经系统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对有机磷杀虫药毒性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肺水肿、呼吸衰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268280"/>
            <a:ext cx="861048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立即脱离中毒现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药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抗胆碱药和胆碱酯酶复能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生命体征稳定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处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有机磷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密切观察病情和生命体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用药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心理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二、百草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百草枯是一种被广泛应用于园艺和农业生产中的除草剂，对人、畜具有很强毒性，且无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百草枯作用于细胞的氧化还原反应，在细胞内活化氧自由基是中毒作用的基础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24000" y="98100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局部刺激症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呼吸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消化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泌尿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循环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028520" indent="-20556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系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68520" indent="-257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08520" indent="-308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物鉴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胸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线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低效性呼吸型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百草枯作用于呼吸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肾功能障碍、消化道出血、肝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百草枯中毒及相关急救常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脱离中毒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促进已吸收毒物的排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百草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严密观察病情变化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一般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800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清除胃肠道中毒物的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催吐和洗胃两种中毒抢救技术的异同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常见毒物中毒的中毒机制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解释一氧化碳中毒进行高压氧治疗的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比较强酸中毒与强碱中毒在临床表现及救护措施上的区别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E894-1526-4EEE-9C11-12B1AC9AE8C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三、急性灭鼠剂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毒鼠强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氟乙酸钠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磷化锌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神经、呼吸、消化等功能障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灭鼠剂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毒鼠强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氟乙酸钠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磷化锌中毒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3" name="线形标注 2 4"/>
          <p:cNvSpPr/>
          <p:nvPr/>
        </p:nvSpPr>
        <p:spPr>
          <a:xfrm>
            <a:off x="4356000" y="2133720"/>
            <a:ext cx="4608720" cy="10792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74157"/>
              <a:gd name="adj6" fmla="val -2003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控制抽搐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解毒剂：二巯基丙磺酸钠、维生素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B6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4" name="线形标注 2 5"/>
          <p:cNvSpPr/>
          <p:nvPr/>
        </p:nvSpPr>
        <p:spPr>
          <a:xfrm>
            <a:off x="4284720" y="3500280"/>
            <a:ext cx="4648320" cy="115092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0097"/>
              <a:gd name="adj6" fmla="val -23106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特效解毒剂：乙酰胺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线形标注 2 6"/>
          <p:cNvSpPr/>
          <p:nvPr/>
        </p:nvSpPr>
        <p:spPr>
          <a:xfrm>
            <a:off x="4211640" y="4869000"/>
            <a:ext cx="4753080" cy="10080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46384"/>
              <a:gd name="adj6" fmla="val -23412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迅速清除毒物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  <a:ea typeface="宋体"/>
              </a:rPr>
              <a:t>）对症治疗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灭鼠剂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病情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四、一氧化碳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人体吸入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后，通过肺泡进入血液循环，与血液中红细胞的血红蛋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(Hb)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结合，形成稳定的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碳氧血红蛋白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不能携带氧，且不易解离，使血红蛋白氧解离曲线左移，血液的携氧能力降低，从而导致组织缺氧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324000" y="980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轻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重度中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中毒后迟发性脑病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血液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COHb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971280" indent="-19404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其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291600" indent="-29160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大脑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心输出量减少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心肌缺氧有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有中毒后迟发性脑病的危险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对人体毒性的认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撤离现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氧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预防中毒后迟发性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氧化碳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氧疗的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五、急性酒精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酒精，学名乙醇，是日常生活中各类酒饮料的主要成分，也可用作医用消毒剂、工业原料等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机制：中枢神经系统损害、代谢异常、心脏损害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85672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分析有机磷杀虫药中毒时，遵医嘱应用胆碱酯酶复能剂的用药观察与护理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说出各种常见急性中毒患者的救护措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360C6-125F-482F-AED5-2B2EBD8E22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兴奋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共济失调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昏迷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清乙醇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和电解质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糖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肝功能检测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酒精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缺乏酒精对人体毒性的认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休克，窒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迅速清除毒物：催吐、洗胃、促进乙醇的体内代谢和排出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纳洛酮是阿片类受体拮抗剂，具有改善呼吸和循环功能、兴奋呼吸和催醒的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对症治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酒精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密切观察病情变化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8ac8de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安全防护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六、急性镇静催眠药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镇静催眠药是中枢神经系统抑制剂，在临床上广泛应用于镇静、催眠、抗惊厥以及麻醉前给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，巴比妥类和苯二氮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微软雅黑"/>
              </a:rPr>
              <a:t>䓬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类镇静催眠药中毒最常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巴比妥类药物中毒：轻度中毒、中度中毒、重度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苯二氮䓬类药物中毒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辅助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、尿液、胃液中药物浓度测定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血液生化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动脉血气分析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电图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意识障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与镇静催眠药作用于中枢神经系统有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潜在并发症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：呼吸抑制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立即清除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特效解毒剂：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氟马西尼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是苯二氮䓬类药物中毒的特效解毒药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维持重要器官功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防治并发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灯片编号占位符 5"/>
          <p:cNvSpPr/>
          <p:nvPr/>
        </p:nvSpPr>
        <p:spPr>
          <a:xfrm>
            <a:off x="4067280" y="6524640"/>
            <a:ext cx="113184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24C5-9CC3-4B72-98D5-B2BC2DC5E3E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785600"/>
            <a:ext cx="829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性中毒是指大量毒物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短时间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进入人体或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毒性剧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的毒物突然进入人体，导致机体受损并发生功能障碍，甚至危及生命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急性镇静催眠药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变化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>
              <a:lnSpc>
                <a:spcPct val="140000"/>
              </a:lnSpc>
              <a:spcBef>
                <a:spcPts val="550"/>
              </a:spcBef>
              <a:buClr>
                <a:srgbClr val="ddb52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一般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七、强酸强碱中毒患者的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强酸（如硫酸、盐酸和硝酸等）和强碱（如氢氧化钠、氢氧化钾、氧化钠和氧化钾等）均具有强烈的刺激和腐蚀作用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毒物接触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临床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消化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呼吸道吸收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经皮肤黏膜接触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接触眼睛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全身表现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主要护理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气体交换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吸入强酸、强碱烟雾后致使气道黏膜充血、水肿及浆液性分泌物过多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皮肤完整性受损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酸、强碱刺激皮肤黏膜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自我形象紊乱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强腐蚀性毒物造成皮肤黏膜损害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焦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与担心疾病预后、费用昂贵等有关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知识缺乏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缺乏强酸、强碱急救常识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救护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急救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酸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强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2" name="线形标注 1 4"/>
          <p:cNvSpPr/>
          <p:nvPr/>
        </p:nvSpPr>
        <p:spPr>
          <a:xfrm>
            <a:off x="3419640" y="1125360"/>
            <a:ext cx="5545080" cy="3672000"/>
          </a:xfrm>
          <a:prstGeom prst="borderCallout1">
            <a:avLst>
              <a:gd name="adj1" fmla="val 18750"/>
              <a:gd name="adj2" fmla="val -8333"/>
              <a:gd name="adj3" fmla="val 46750"/>
              <a:gd name="adj4" fmla="val -16430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中毒者：尽早给予镁乳、氢氧化铝凝胶或石灰水等弱碱溶液中和强酸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呼吸道吸入者：立即吸氧，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溶液雾化吸入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灼伤者：快速用大量流动水冲洗，然后给予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碳酸氢钠或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氨水或肥皂水中和强酸，然后再用水冲洗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睛接触者：立即用大量清水或生理盐水彻底清洗，然后给予可的松及抗生素眼药水交替滴眼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3" name="线形标注 1 5"/>
          <p:cNvSpPr/>
          <p:nvPr/>
        </p:nvSpPr>
        <p:spPr>
          <a:xfrm>
            <a:off x="2987640" y="2205000"/>
            <a:ext cx="6156360" cy="3960720"/>
          </a:xfrm>
          <a:prstGeom prst="borderCallout1">
            <a:avLst>
              <a:gd name="adj1" fmla="val 18750"/>
              <a:gd name="adj2" fmla="val -8333"/>
              <a:gd name="adj3" fmla="val 34902"/>
              <a:gd name="adj4" fmla="val -15319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口服强碱者：立即用食醋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、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稀盐酸、柠檬汁或橘汁等弱酸溶液中和，然后服用生蛋清或牛奶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吸入强碱者：吸入性氨中毒者，保持呼吸道通畅，积极氧疗，必要时气管切开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皮肤接触者：尽快用大量流动水冲洗，然后涂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醋酸溶液中和强碱，应避免在冲洗前使用中和剂，以防发生中和热而加重损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眼部接触者：立即用清水反复冲洗，然后滴入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%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的硫酸阿托品。石灰灼伤者，先将石灰粉末擦拭干净，再用大量流动清水冲洗，防止石灰遇水生热而加重烧伤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强酸强碱中毒患者的救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护理措施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严密观察病情和生命体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营养支持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口腔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4284720" y="6524640"/>
            <a:ext cx="1224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37871-E7F0-4169-A29D-E15B6C2E263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515080" cy="45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立即终止接触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吸入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将患者从有毒环境转移到空气新鲜的地方，并解开衣扣、裤带，保持呼吸道通畅，给氧，注意保暖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二）接触性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离中毒现场，脱去污染衣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三）现场抢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心跳呼吸骤停者，立即给予现场心肺复苏术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灯片编号占位符 5"/>
          <p:cNvSpPr/>
          <p:nvPr/>
        </p:nvSpPr>
        <p:spPr>
          <a:xfrm>
            <a:off x="4427640" y="6524640"/>
            <a:ext cx="9144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F11B-9D16-46D8-9532-D87A3897F93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急性中毒的基本救治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964720" cy="480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清除尚未吸收的毒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（一）清除皮肤黏膜上的毒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立即脱去污染的衣物，先用毛巾、棉花或卫生纸等拭去肉眼可见的毒物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然后用清水或肥皂水反复清洗患者体表、毛发、皮肤皱褶处、甲缝内的毒物，冲洗时间应达到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15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～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宋体"/>
              </a:rPr>
              <a:t>30 </a:t>
            </a:r>
            <a:r>
              <a:rPr b="0" lang="zh-CN" sz="2200" spc="-1" strike="noStrike">
                <a:solidFill>
                  <a:srgbClr val="ff0000"/>
                </a:solidFill>
                <a:latin typeface="Arial"/>
                <a:ea typeface="宋体"/>
              </a:rPr>
              <a:t>分钟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，毒物种类明确者可使用特殊清洗液（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16-1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  <a:ea typeface="宋体"/>
              </a:rPr>
              <a:t>）。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539640" y="2133720"/>
          <a:ext cx="7704360" cy="2666880"/>
        </p:xfrm>
        <a:graphic>
          <a:graphicData uri="http://schemas.openxmlformats.org/drawingml/2006/table">
            <a:tbl>
              <a:tblPr/>
              <a:tblGrid>
                <a:gridCol w="3853080"/>
                <a:gridCol w="3851280"/>
              </a:tblGrid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毒物种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皮肤清洁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酸性（有机磷、甲醛、强酸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氢钠或肥皂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碱性（氨水、氢氧化钠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醋酸、食醋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～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硼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无机磷（磷化锌等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碳酸钠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苯类、香蕉水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%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乙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TextBox 8"/>
          <p:cNvSpPr/>
          <p:nvPr/>
        </p:nvSpPr>
        <p:spPr>
          <a:xfrm>
            <a:off x="2484360" y="1557360"/>
            <a:ext cx="395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表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6-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常见皮肤清洁剂及适应证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23:25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